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7B3A36A-D795-403D-8B44-7EC1B56AA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4795170-50EF-4A55-B497-85F1581FF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FC6BC7F-E150-4D43-A1B0-2DB9124130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2A57B5B-C9F3-472D-A28D-E6BBA2A076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07054DD-43EF-427F-98EA-08984BFD1B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572585F-CF1D-496F-9535-D7A4AC2574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878F01A-53E3-4A53-9E49-97229037C6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F687A16-1910-4808-A7FB-F063CB06E8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FB31D62-611E-4876-A3C3-DC9FE2D391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25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9" descr="TI Logo wide ppt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ransparentnost.org.rs/" TargetMode="External"/><Relationship Id="rId2" Type="http://schemas.openxmlformats.org/officeDocument/2006/relationships/hyperlink" Target="http://www.transparentnost.org.r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s@transparentnost.org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transparentnost.org.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TI Logo wide ppt"/>
          <p:cNvPicPr/>
          <p:nvPr/>
        </p:nvPicPr>
        <p:blipFill>
          <a:blip r:embed="rId3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1557360"/>
          <a:ext cx="8101080" cy="501012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v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z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dom House, Nations in Trans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ne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pitanici uglavnom potiču iz razvijenih zemalj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telsmann Foundatio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U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onomist Intelligence Un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Risk Service by IHS Global Insigh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učnjaci angažovani od strane bank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 institucij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 Competitiveness Report of the World Economic Forum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ažanja 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na Gora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5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09480" y="260280"/>
            <a:ext cx="82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1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97000"/>
          <a:ext cx="8207280" cy="4622760"/>
        </p:xfrm>
        <a:graphic>
          <a:graphicData uri="http://schemas.openxmlformats.org/drawingml/2006/table">
            <a:tbl>
              <a:tblPr/>
              <a:tblGrid>
                <a:gridCol w="528480"/>
                <a:gridCol w="1087560"/>
                <a:gridCol w="531720"/>
                <a:gridCol w="639720"/>
                <a:gridCol w="636840"/>
                <a:gridCol w="639720"/>
                <a:gridCol w="636480"/>
                <a:gridCol w="638280"/>
                <a:gridCol w="636480"/>
                <a:gridCol w="638280"/>
                <a:gridCol w="636480"/>
                <a:gridCol w="957240"/>
              </a:tblGrid>
              <a:tr h="13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a</a:t>
                      </a:r>
                      <a:r>
                        <a:rPr b="1" i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Zem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0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k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roj 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raživanj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– CPI 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love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rvat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ked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rna Gor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SCG 2000 – 20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rbija (SCG 2000-20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cija Srbije (SCG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do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20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) na skali CPI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792000" y="1523880"/>
          <a:ext cx="374832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523880"/>
                    <a:ext cx="37483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4"/>
          <p:cNvGraphicFramePr/>
          <p:nvPr/>
        </p:nvGraphicFramePr>
        <p:xfrm>
          <a:off x="4724280" y="1733400"/>
          <a:ext cx="3810240" cy="17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733400"/>
                    <a:ext cx="3810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Chart 5" descr=""/>
          <p:cNvPicPr/>
          <p:nvPr/>
        </p:nvPicPr>
        <p:blipFill>
          <a:blip r:embed="rId5"/>
          <a:stretch/>
        </p:blipFill>
        <p:spPr>
          <a:xfrm>
            <a:off x="676440" y="1695600"/>
            <a:ext cx="751032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aci iz 2000-te: suočavanje sa katastrofalnom slikom o Srb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003: Očekivan veći pomak na listi, ali se percepcija sporo m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004: Napravljen novi pomak – približavanje realnom stanju stv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2007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Zadržan minimalan trend rasta – nema radikalnih promena koje bi dovele do brze promene percepcije korup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naci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prvi put nema ni minimalnog napretka, druge zemlje nas sustižu i prestiž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mboličan napred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Stagn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 2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 – nema mesta zadovoljstv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isak o visokoj korumpiranosti imaju i građani Srbije, što proizlazi iz rezultata istraživanja koja se vrše na nacionalnom uzorku (npr. Globalni barometar korup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Teme za razmišlja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0" algn="just">
              <a:lnSpc>
                <a:spcPts val="26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itanja koja treba sami sebi da postavimo kada se pitamo da li je utisak o nama mogao da bude bol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mamo li osmišljen plan za suzbijanje i smanjivanje korupcije i da li ga sprovodi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mamo li dovoljno snažne, obučene i opremljene institucije za borbu protiv korupcij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popunjavamo “rupe u zakonima” kada postanu uočlj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veravamo li da li novi propisi i odluke državnih organa otvaraju nove mogućnosti za korupcij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odluke i preporuke nezavisnih kontrolora uvažavaju ili ignoriš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ristimo li rezultate spoljnog monitoringa (npr. izveštaje EK) kao zamajac antikorupcijskih reformi ili umanjujemo probleme na koje nam ukazuj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je proces donošenja odluka podvrgnut javnoj kontroli a diskreciona ovlašćenja svedena na neophodni minim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zakonska prinuda primenjuje uvek i jednako u jednakim situacijama ili selektivn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CPI_pp"/>
          <p:cNvPicPr/>
          <p:nvPr/>
        </p:nvPicPr>
        <p:blipFill>
          <a:blip r:embed="rId1"/>
          <a:stretch/>
        </p:blipFill>
        <p:spPr>
          <a:xfrm>
            <a:off x="611280" y="952560"/>
            <a:ext cx="8245440" cy="5500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CPI 2010 Map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3300"/>
                </a:solidFill>
                <a:latin typeface="Arial"/>
              </a:rPr>
              <a:t>Antikorupcijsko savetovalište – ALAC (Anti Corruption Legal Advice Center)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52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6. Oktobar 2010. Beog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Antikorupcijsko savetovalište ALA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. godina: Bosna i Hercegovina, Makedonija i Rumu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6. godina: Srb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AC d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 kontin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3 zem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0 ALAC cent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Picture 3" descr="TI KENYA_KUBI_JAN2002_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4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3 različitih istraživanja i studija, koje je sprovelo 1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Antikorupcijsko savetovalište ALA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6.- do danas: 1227 otvorenih i pokrenutih sluča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8.- 259 otvorenih sluča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9.- 281 novi sluč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10.- 202 nova slučaja do 31.avgusta ove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ALAC- Oktobar 2007. godine do dan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ALAC- 2010. godin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481040" y="1523880"/>
            <a:ext cx="633420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ALAC- 2010. godin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dnosu na 2009. godi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nje broja obraćanja savetovalištu za 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nje broja slučajeva javnih nabavki za 25%, isti broj slučajeva iz oblasti pravosuđa i zdravstva, postupanja inspekcija za 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manjenje broja slučajeva iz oblasti obrazovanja za oko 35%, oblasti političkih partija za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Antikorupcijsko savetovalište ALA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splatna pravna po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oseban telefonski broj 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0800 - 081 - 081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radnim danima od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do 15 čas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Pozivi na ovaj broj su mogući sa svih brojeva fiksne telefonije iz Srb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otpuno su 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</a:rPr>
              <a:t>besplatni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za građan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jlom: </a:t>
            </a: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ts@transparentnost.org.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som: 011/322-81-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štom: Bul. Despota Stefana 36/1, Beog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87280" y="1209600"/>
          <a:ext cx="6913800" cy="2705040"/>
        </p:xfrm>
        <a:graphic>
          <a:graphicData uri="http://schemas.openxmlformats.org/drawingml/2006/table">
            <a:tbl>
              <a:tblPr/>
              <a:tblGrid>
                <a:gridCol w="1695600"/>
                <a:gridCol w="1692360"/>
                <a:gridCol w="1693800"/>
                <a:gridCol w="183204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mlj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or (0-10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. istr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anj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i Zel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apu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sk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ved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- Najbolji i naj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j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Rectangle 266"/>
          <p:cNvSpPr/>
          <p:nvPr/>
        </p:nvSpPr>
        <p:spPr>
          <a:xfrm>
            <a:off x="1403280" y="3860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68"/>
          <p:cNvSpPr/>
          <p:nvPr/>
        </p:nvSpPr>
        <p:spPr>
          <a:xfrm>
            <a:off x="1187280" y="76500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16000" y="4411800"/>
          <a:ext cx="7128000" cy="1930320"/>
        </p:xfrm>
        <a:graphic>
          <a:graphicData uri="http://schemas.openxmlformats.org/drawingml/2006/table">
            <a:tbl>
              <a:tblPr/>
              <a:tblGrid>
                <a:gridCol w="933480"/>
                <a:gridCol w="2170080"/>
                <a:gridCol w="2073240"/>
                <a:gridCol w="195120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ml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 (0-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. istraživ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nist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al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0920" y="691920"/>
            <a:ext cx="7923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Najveći napredak na listi u odnosu na prošlu godinu su ostvari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66ff"/>
                </a:solidFill>
                <a:latin typeface="Arial"/>
              </a:rPr>
              <a:t>Butan, Čile, Ekvador, Makedonija, Gambija, Haiti, Jamajka, Kuvajt i Katar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Najviše su nazadovali na listi u odnosu na prošlu godinu:</a:t>
            </a:r>
            <a:r>
              <a:rPr b="0" lang="vi-VN" sz="2800" spc="-1" strike="noStrike">
                <a:solidFill>
                  <a:srgbClr val="0066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66ff"/>
                </a:solidFill>
                <a:latin typeface="Arial"/>
              </a:rPr>
              <a:t>Češka, Grčka, Mađarska, Italija, Madagaskar, Niger i SAD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</a:t>
            </a: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AND_~1A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 prilika u pojedinim zemljama i ne odražava nužno trendove za pojedine god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Skor je relevantniji od mesta na tabeli (zato što se ponekada menja broj država koje su uključene). U 20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10 rangirano je ukupno 178 država, dve manje u odnosu na 2009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AND_~1A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Nedosta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Pred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I druga sredstva za procenu korupcije dovode do sličnih rezultata kao i C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CPI je dobra šansa da se unapredi javna rasprava o korup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CPI je dobar podsticaj za sprovođenje daljih 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CPI obuhvata gotovo sve države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etodološke napomene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buhvaćena 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a objavljena tokom 2009 i 2010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4-01T08:14:45Z</dcterms:modified>
  <cp:revision>40</cp:revision>
  <dc:subject/>
  <dc:title>Slide 1</dc:title>
</cp:coreProperties>
</file>